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F83-2F05-43BC-BFC4-0E7EB599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E7F-280F-4459-9843-D8A7B7E2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C34E-C3E6-481F-BC60-669B3751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8D4-BE36-4A2D-8549-51F046E7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440-5D78-45F3-824A-358CCF1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0FF-169D-46D0-A2E5-6A2592EE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E06-0005-4046-B0D4-86711B33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4A9-FF00-4E40-8E6E-60B380F5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D00-6227-40E9-B89F-BBE003BD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13E5-C7A3-4D80-9CEF-2089F8CA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91A-4952-44AA-985F-C2DA1AF8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72F-658B-4158-97CF-0500DA9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F650-E21C-4FBB-80A4-679EA99EAAAA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%20http:/images.search.yahoo.com/search/images/view?back=http%3A%2F%2Fimages.search.yahoo.com%2Fsearch%2Fimages%3F_adv_prop%3Dimages%26imgsz%3Dall%26vf%3Dphoto%26va%3Dbarrel%26ei%3DUTF-8%26fr%3Dslv8-msgr%26b%3D281&amp;w=274&amp;h=380&amp;imgurl=www.istockphoto.com%2Ffile_thumbview_approve%2F274311%2F2%2Fistockphoto_274311_a_barrel.jpg&amp;rurl=http%3A%2F%2Fwww.istockphoto.com%2Ffile_closeup.php%3Fid%3D274311&amp;size=39.7kB&amp;name=istockphoto_274311_a_barrel.jpg&amp;p=barrel&amp;type=jpeg&amp;no=291&amp;tt=238,379&amp;oid=d2f5aaa28e07e404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ff0066"/>
                </a:solidFill>
                <a:latin typeface="Times New Roman"/>
              </a:rPr>
              <a:t>Unităţi de măsură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3860640"/>
            <a:ext cx="6729480" cy="91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o-RO" sz="2000" spc="-1" strike="noStrike">
              <a:solidFill>
                <a:srgbClr val="ff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Cei patru copii au cules mere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755640" y="1484280"/>
          <a:ext cx="748836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484280"/>
                    <a:ext cx="748836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7"/>
          <p:cNvSpPr/>
          <p:nvPr/>
        </p:nvSpPr>
        <p:spPr>
          <a:xfrm>
            <a:off x="684360" y="549360"/>
            <a:ext cx="75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cc"/>
                </a:solidFill>
                <a:latin typeface="Times New Roman"/>
              </a:rPr>
              <a:t>Câte kg. de mere a cules fiecare copil?                                                Cu câte kg. mai multe a cules Florin decât Victor?                          Câte kg. de mere au cules în total copiii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0" y="4005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Rezolvare:</a:t>
            </a:r>
            <a:r>
              <a:rPr b="1" lang="ro-RO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865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Stabileşte corespondenţa dintre instrumentul de măsură şi mărimea măsurată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116000" y="119700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ceasul metrul     litrul          kilogram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716360" y="1197000"/>
            <a:ext cx="23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lungimea        capacitatea       masa            timp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195640" y="1557360"/>
            <a:ext cx="2592360" cy="1224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50920" y="3357720"/>
            <a:ext cx="864216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La ora 8 Alin a plecat spre Braşov. A călătorit cu microbuzul 2 ore, cu trenul 4 ore, iar până la cabană a mers 15 minute pe jos. La ce oră s-a cazat Al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24000" y="450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Rezolv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92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ro-RO" sz="4400" spc="-1" strike="noStrike">
                <a:solidFill>
                  <a:srgbClr val="ff0000"/>
                </a:solidFill>
                <a:latin typeface="Times New Roman"/>
              </a:rPr>
              <a:t>OMPLETEAZĂ TABELUL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1197000"/>
          <a:ext cx="8353440" cy="5375160"/>
        </p:xfrm>
        <a:graphic>
          <a:graphicData uri="http://schemas.openxmlformats.org/drawingml/2006/table">
            <a:tbl>
              <a:tblPr/>
              <a:tblGrid>
                <a:gridCol w="2160360"/>
                <a:gridCol w="2232000"/>
                <a:gridCol w="3961080"/>
              </a:tblGrid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CE MĂSOAR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UNITATEA DE</a:t>
                      </a:r>
                      <a:r>
                        <a:rPr b="1" lang="ro-RO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MĂSUR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INSTRUMENTUL DE</a:t>
                      </a:r>
                      <a:r>
                        <a:rPr b="1" lang="ro-RO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MĂSUR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APACITAT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MA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LUNGIM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TIMP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VALOAR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125360"/>
            <a:ext cx="2448000" cy="23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o to fullsize image"/>
          <p:cNvPicPr/>
          <p:nvPr/>
        </p:nvPicPr>
        <p:blipFill>
          <a:blip r:embed="rId3"/>
          <a:stretch/>
        </p:blipFill>
        <p:spPr>
          <a:xfrm>
            <a:off x="3995640" y="1125360"/>
            <a:ext cx="3384720" cy="2465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1835280" y="19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47 </a:t>
            </a:r>
            <a:r>
              <a:rPr b="1" lang="ro-RO" sz="3200" spc="-1" strike="noStrike">
                <a:solidFill>
                  <a:srgbClr val="000066"/>
                </a:solidFill>
                <a:latin typeface="Times New Roman"/>
              </a:rPr>
              <a:t>lit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258920" y="189000"/>
            <a:ext cx="6842160" cy="1373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Fiecare butoi are capacitatea de 250 de litri.                                       Ce cantitate de lichid lipseşte din fieca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4859280" y="1844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Times New Roman"/>
              </a:rPr>
              <a:t>192 li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755640" y="3716280"/>
            <a:ext cx="813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26920" y="3860640"/>
          <a:ext cx="7417080" cy="2590920"/>
        </p:xfrm>
        <a:graphic>
          <a:graphicData uri="http://schemas.openxmlformats.org/drawingml/2006/table">
            <a:tbl>
              <a:tblPr/>
              <a:tblGrid>
                <a:gridCol w="741600"/>
                <a:gridCol w="741240"/>
                <a:gridCol w="743040"/>
                <a:gridCol w="741240"/>
                <a:gridCol w="741600"/>
                <a:gridCol w="741240"/>
                <a:gridCol w="741240"/>
                <a:gridCol w="743040"/>
                <a:gridCol w="741240"/>
                <a:gridCol w="74160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2" name="Text Box 79"/>
          <p:cNvSpPr/>
          <p:nvPr/>
        </p:nvSpPr>
        <p:spPr>
          <a:xfrm>
            <a:off x="826920" y="3429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REZOLV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7164360" y="321300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2556000" y="321300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4859280" y="3213000"/>
            <a:ext cx="1511280" cy="1295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1366920" cy="12240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57" name="Text Box 19"/>
          <p:cNvSpPr/>
          <p:nvPr/>
        </p:nvSpPr>
        <p:spPr>
          <a:xfrm>
            <a:off x="395280" y="189000"/>
            <a:ext cx="85694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a50021"/>
                </a:solidFill>
                <a:latin typeface="Times New Roman"/>
              </a:rPr>
              <a:t>Observă ora indicată pe fiecare ceas ziua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ro-RO" sz="3600" spc="-1" strike="noStrike">
                <a:solidFill>
                  <a:srgbClr val="a50021"/>
                </a:solidFill>
                <a:latin typeface="Times New Roman"/>
              </a:rPr>
              <a:t>               Răspunde la întrebăr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68360" y="1484280"/>
            <a:ext cx="849636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1. Ce oră indică fiecare c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468360" y="2133720"/>
            <a:ext cx="8496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2. Ce oră au indicat ceasurile cu două ore mai devr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468360" y="2637000"/>
            <a:ext cx="849636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 Ce oră vor indica ceasurile peste trei o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79280" y="4581360"/>
            <a:ext cx="187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179280" y="5229360"/>
            <a:ext cx="187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179280" y="5950080"/>
            <a:ext cx="1871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2268360" y="4581360"/>
            <a:ext cx="194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4500720" y="4581360"/>
            <a:ext cx="215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6877080" y="4581360"/>
            <a:ext cx="201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2268360" y="5950080"/>
            <a:ext cx="194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2268360" y="5229360"/>
            <a:ext cx="194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4500720" y="5229360"/>
            <a:ext cx="2160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6877080" y="5300640"/>
            <a:ext cx="201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4500720" y="5950080"/>
            <a:ext cx="21589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6804000" y="5950080"/>
            <a:ext cx="208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reea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şi Andrei culeg struguri din via bunicului.</a:t>
            </a:r>
            <a:br>
              <a:rPr sz="2800"/>
            </a:b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Spune câte kg. au cules copiii în cele 5 zile?</a:t>
            </a:r>
            <a:br>
              <a:rPr sz="2800"/>
            </a:b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În ce zi au cules cel mai mult?  Dar cel mai puţin?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4" name="Object 5"/>
          <p:cNvGraphicFramePr/>
          <p:nvPr/>
        </p:nvGraphicFramePr>
        <p:xfrm>
          <a:off x="685800" y="3224160"/>
          <a:ext cx="380988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24160"/>
                    <a:ext cx="38098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6"/>
          <p:cNvGraphicFramePr/>
          <p:nvPr/>
        </p:nvGraphicFramePr>
        <p:xfrm>
          <a:off x="0" y="1197000"/>
          <a:ext cx="8691480" cy="3181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86914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9"/>
          <p:cNvSpPr/>
          <p:nvPr/>
        </p:nvSpPr>
        <p:spPr>
          <a:xfrm>
            <a:off x="179280" y="4365720"/>
            <a:ext cx="87138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Rezolvar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324000" y="333360"/>
            <a:ext cx="82803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a50021"/>
                </a:solidFill>
                <a:latin typeface="Times New Roman"/>
              </a:rPr>
              <a:t>Ordonează numele copiilor de la cel mai mic la cel mai 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50920" y="1052640"/>
            <a:ext cx="201744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Vior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6 decemb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340000" y="1125360"/>
            <a:ext cx="144000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Adela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3 m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924360" y="1125360"/>
            <a:ext cx="151272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9 aug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5724360" y="1125360"/>
            <a:ext cx="122400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Fil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 iu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236000" y="1125360"/>
            <a:ext cx="1368360" cy="1137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ff"/>
                </a:solidFill>
                <a:latin typeface="Times New Roman"/>
              </a:rPr>
              <a:t>Ir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1ma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684360" y="2421000"/>
            <a:ext cx="1008000" cy="579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484360" y="2421000"/>
            <a:ext cx="1081080" cy="579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140360" y="2492280"/>
            <a:ext cx="1081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724360" y="2492280"/>
            <a:ext cx="1081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7308720" y="2492280"/>
            <a:ext cx="1081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250920" y="3716280"/>
            <a:ext cx="849636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Times New Roman"/>
              </a:rPr>
              <a:t>Scrie 5 zile la rând fără a spune datele sau numele 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250920" y="4724280"/>
            <a:ext cx="18730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2411280" y="4724280"/>
            <a:ext cx="1079640" cy="581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i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3708360" y="4724280"/>
            <a:ext cx="136836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5292720" y="4724280"/>
            <a:ext cx="151128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7093080" y="4724280"/>
            <a:ext cx="1871640" cy="579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 rot="21201000">
            <a:off x="179280" y="4508640"/>
            <a:ext cx="936720" cy="647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"/>
          <p:cNvSpPr/>
          <p:nvPr/>
        </p:nvSpPr>
        <p:spPr>
          <a:xfrm rot="21209400">
            <a:off x="0" y="4149360"/>
            <a:ext cx="1187280" cy="360360"/>
          </a:xfrm>
          <a:prstGeom prst="triangle">
            <a:avLst>
              <a:gd name="adj" fmla="val 50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 rot="21358200">
            <a:off x="3132000" y="4149720"/>
            <a:ext cx="11541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084720" y="2708280"/>
            <a:ext cx="266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227640" y="2565360"/>
            <a:ext cx="2735280" cy="1727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8459640" y="3573360"/>
            <a:ext cx="360360" cy="719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788508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687708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637236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738036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738036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6877080" y="342900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8388360" y="2924280"/>
            <a:ext cx="36036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1"/>
          <p:cNvSpPr/>
          <p:nvPr/>
        </p:nvSpPr>
        <p:spPr>
          <a:xfrm flipV="1">
            <a:off x="0" y="4723920"/>
            <a:ext cx="3995640" cy="505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2"/>
          <p:cNvSpPr/>
          <p:nvPr/>
        </p:nvSpPr>
        <p:spPr>
          <a:xfrm flipV="1">
            <a:off x="0" y="6165720"/>
            <a:ext cx="3851280" cy="503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>
            <a:off x="3816360" y="6165720"/>
            <a:ext cx="5327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>
            <a:off x="3995640" y="4724280"/>
            <a:ext cx="514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6"/>
          <p:cNvSpPr/>
          <p:nvPr/>
        </p:nvSpPr>
        <p:spPr>
          <a:xfrm>
            <a:off x="5759280" y="2060640"/>
            <a:ext cx="3384720" cy="50472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1"/>
          <p:cNvSpPr/>
          <p:nvPr/>
        </p:nvSpPr>
        <p:spPr>
          <a:xfrm rot="18597000">
            <a:off x="5464440" y="4466880"/>
            <a:ext cx="549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5"/>
          <p:cNvSpPr/>
          <p:nvPr/>
        </p:nvSpPr>
        <p:spPr>
          <a:xfrm flipH="1">
            <a:off x="2771280" y="5084640"/>
            <a:ext cx="1729080" cy="28908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6"/>
          <p:cNvSpPr/>
          <p:nvPr/>
        </p:nvSpPr>
        <p:spPr>
          <a:xfrm flipV="1">
            <a:off x="179280" y="5516640"/>
            <a:ext cx="1297080" cy="21600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8"/>
          <p:cNvSpPr/>
          <p:nvPr/>
        </p:nvSpPr>
        <p:spPr>
          <a:xfrm flipV="1">
            <a:off x="179280" y="5660640"/>
            <a:ext cx="4502160" cy="576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9"/>
          <p:cNvSpPr/>
          <p:nvPr/>
        </p:nvSpPr>
        <p:spPr>
          <a:xfrm flipH="1">
            <a:off x="6443280" y="5661000"/>
            <a:ext cx="237636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0"/>
          <p:cNvSpPr/>
          <p:nvPr/>
        </p:nvSpPr>
        <p:spPr>
          <a:xfrm>
            <a:off x="4716360" y="5445000"/>
            <a:ext cx="158436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42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1"/>
          <p:cNvSpPr/>
          <p:nvPr/>
        </p:nvSpPr>
        <p:spPr>
          <a:xfrm>
            <a:off x="8317080" y="4292640"/>
            <a:ext cx="576000" cy="142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2"/>
          <p:cNvSpPr/>
          <p:nvPr/>
        </p:nvSpPr>
        <p:spPr>
          <a:xfrm>
            <a:off x="8244000" y="4437000"/>
            <a:ext cx="720720" cy="144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3"/>
          <p:cNvSpPr/>
          <p:nvPr/>
        </p:nvSpPr>
        <p:spPr>
          <a:xfrm flipH="1">
            <a:off x="8100720" y="5084640"/>
            <a:ext cx="86364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55"/>
          <p:cNvSpPr/>
          <p:nvPr/>
        </p:nvSpPr>
        <p:spPr>
          <a:xfrm rot="21196200">
            <a:off x="1618920" y="5229360"/>
            <a:ext cx="107964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197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6"/>
          <p:cNvSpPr/>
          <p:nvPr/>
        </p:nvSpPr>
        <p:spPr>
          <a:xfrm rot="21424200">
            <a:off x="3059280" y="3716280"/>
            <a:ext cx="122544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agaz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57"/>
          <p:cNvSpPr/>
          <p:nvPr/>
        </p:nvSpPr>
        <p:spPr>
          <a:xfrm>
            <a:off x="3276720" y="4221000"/>
            <a:ext cx="215640" cy="21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58"/>
          <p:cNvSpPr/>
          <p:nvPr/>
        </p:nvSpPr>
        <p:spPr>
          <a:xfrm>
            <a:off x="3995640" y="4221000"/>
            <a:ext cx="216000" cy="216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9"/>
          <p:cNvSpPr/>
          <p:nvPr/>
        </p:nvSpPr>
        <p:spPr>
          <a:xfrm>
            <a:off x="3635280" y="4221000"/>
            <a:ext cx="216000" cy="50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7020000" y="2492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Times New Roman"/>
              </a:rPr>
              <a:t>Şco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250920" y="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ompune o problemă folosind imaginea dat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324000" y="404640"/>
            <a:ext cx="86407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63"/>
          <p:cNvSpPr/>
          <p:nvPr/>
        </p:nvSpPr>
        <p:spPr>
          <a:xfrm>
            <a:off x="4572000" y="5084640"/>
            <a:ext cx="237636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64"/>
          <p:cNvSpPr/>
          <p:nvPr/>
        </p:nvSpPr>
        <p:spPr>
          <a:xfrm>
            <a:off x="7093080" y="4869000"/>
            <a:ext cx="91440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?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66"/>
                </a:solidFill>
                <a:latin typeface="Times New Roman"/>
              </a:rPr>
              <a:t>La ce oră se termină fiecare activitate dacă începe la ora 16 şi 30 minute?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11280" y="1197000"/>
          <a:ext cx="8137440" cy="1974960"/>
        </p:xfrm>
        <a:graphic>
          <a:graphicData uri="http://schemas.openxmlformats.org/drawingml/2006/table">
            <a:tbl>
              <a:tblPr/>
              <a:tblGrid>
                <a:gridCol w="2066760"/>
                <a:gridCol w="3301920"/>
                <a:gridCol w="2768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Activitat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DUR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o-RO" sz="2800" spc="-1" strike="noStrike">
                          <a:solidFill>
                            <a:srgbClr val="cc00ff"/>
                          </a:solidFill>
                          <a:latin typeface="Times New Roman"/>
                        </a:rPr>
                        <a:t>ORA DE ÎNCHEI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Fotb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Basch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o oră şi 30 min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o oră şi 20 minu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52"/>
          <p:cNvSpPr/>
          <p:nvPr/>
        </p:nvSpPr>
        <p:spPr>
          <a:xfrm>
            <a:off x="684360" y="4149720"/>
            <a:ext cx="828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5"/>
          <p:cNvSpPr/>
          <p:nvPr/>
        </p:nvSpPr>
        <p:spPr>
          <a:xfrm>
            <a:off x="250920" y="3284640"/>
            <a:ext cx="864072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Din </a:t>
            </a:r>
            <a:r>
              <a:rPr b="0" lang="ro-RO" sz="2800" spc="-1" strike="noStrike">
                <a:solidFill>
                  <a:srgbClr val="0033cc"/>
                </a:solidFill>
                <a:latin typeface="Times New Roman"/>
              </a:rPr>
              <a:t>5 în 5 m, se plantează tei pe ambele părţi ale unei alei.           Câţi tei s-au plantat dacă lungimea aleii este de 15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V="1">
            <a:off x="684360" y="4508640"/>
            <a:ext cx="7561080" cy="7128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 flipV="1">
            <a:off x="684360" y="4941360"/>
            <a:ext cx="7561080" cy="716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71"/>
          <p:cNvSpPr/>
          <p:nvPr/>
        </p:nvSpPr>
        <p:spPr>
          <a:xfrm rot="5400000">
            <a:off x="4283640" y="1485000"/>
            <a:ext cx="289080" cy="7488000"/>
          </a:xfrm>
          <a:custGeom>
            <a:avLst/>
            <a:gdLst>
              <a:gd name="textAreaLeft" fmla="*/ 0 w 289080"/>
              <a:gd name="textAreaRight" fmla="*/ 104400 w 289080"/>
              <a:gd name="textAreaTop" fmla="*/ 209160 h 7488000"/>
              <a:gd name="textAreaBottom" fmla="*/ 7278840 h 748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5"/>
                  <a:pt x="10800" y="1929"/>
                </a:cubicBezTo>
                <a:lnTo>
                  <a:pt x="10800" y="8410"/>
                </a:lnTo>
                <a:cubicBezTo>
                  <a:pt x="10800" y="9375"/>
                  <a:pt x="16200" y="10339"/>
                  <a:pt x="21600" y="10339"/>
                </a:cubicBezTo>
                <a:cubicBezTo>
                  <a:pt x="16200" y="10339"/>
                  <a:pt x="10800" y="11304"/>
                  <a:pt x="10800" y="12268"/>
                </a:cubicBezTo>
                <a:lnTo>
                  <a:pt x="10800" y="19671"/>
                </a:lnTo>
                <a:cubicBezTo>
                  <a:pt x="10800" y="2063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2"/>
          <p:cNvSpPr/>
          <p:nvPr/>
        </p:nvSpPr>
        <p:spPr>
          <a:xfrm>
            <a:off x="4211640" y="5300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cc"/>
                </a:solidFill>
                <a:latin typeface="Times New Roman"/>
              </a:rPr>
              <a:t>1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50920" y="5734080"/>
            <a:ext cx="87138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00000"/>
                </a:solidFill>
                <a:latin typeface="Times New Roman"/>
              </a:rPr>
              <a:t>Rezolv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78"/>
          <p:cNvSpPr/>
          <p:nvPr/>
        </p:nvSpPr>
        <p:spPr>
          <a:xfrm>
            <a:off x="684360" y="5013360"/>
            <a:ext cx="215640" cy="712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80"/>
          <p:cNvSpPr/>
          <p:nvPr/>
        </p:nvSpPr>
        <p:spPr>
          <a:xfrm>
            <a:off x="3132000" y="4941720"/>
            <a:ext cx="216000" cy="71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1"/>
          <p:cNvSpPr/>
          <p:nvPr/>
        </p:nvSpPr>
        <p:spPr>
          <a:xfrm>
            <a:off x="5508720" y="4941720"/>
            <a:ext cx="215640" cy="71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82"/>
          <p:cNvSpPr/>
          <p:nvPr/>
        </p:nvSpPr>
        <p:spPr>
          <a:xfrm>
            <a:off x="8028000" y="4941720"/>
            <a:ext cx="216000" cy="716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8000"/>
                </a:solidFill>
                <a:latin typeface="Times New Roman"/>
              </a:rPr>
              <a:t>Trei saci identici sunt plini cu sare, lână şi făină. Care sac este mai greu? Dar mai uşor?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9" name="Picture 5" descr="Saci rafie"/>
          <p:cNvPicPr/>
          <p:nvPr/>
        </p:nvPicPr>
        <p:blipFill>
          <a:blip r:embed="rId1"/>
          <a:stretch/>
        </p:blipFill>
        <p:spPr>
          <a:xfrm>
            <a:off x="179280" y="13413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Saci rafie"/>
          <p:cNvPicPr/>
          <p:nvPr/>
        </p:nvPicPr>
        <p:blipFill>
          <a:blip r:embed="rId2"/>
          <a:stretch/>
        </p:blipFill>
        <p:spPr>
          <a:xfrm>
            <a:off x="3132000" y="1341360"/>
            <a:ext cx="2664000" cy="194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Saci rafie"/>
          <p:cNvPicPr/>
          <p:nvPr/>
        </p:nvPicPr>
        <p:blipFill>
          <a:blip r:embed="rId3"/>
          <a:stretch/>
        </p:blipFill>
        <p:spPr>
          <a:xfrm>
            <a:off x="6156360" y="1341360"/>
            <a:ext cx="2663640" cy="1944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187280" y="2060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164360" y="206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făin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140360" y="2060640"/>
            <a:ext cx="8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lân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39640" y="3357720"/>
            <a:ext cx="2087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3492360" y="3357720"/>
            <a:ext cx="208764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372360" y="3357720"/>
            <a:ext cx="20872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68360" y="3933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33cc"/>
                </a:solidFill>
                <a:latin typeface="Times New Roman"/>
              </a:rPr>
              <a:t>Treceţi în paranteză numerele care exprimă orele exacte de după-amiaz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50920" y="5084640"/>
            <a:ext cx="18716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Ora 2  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Ora 6  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2268360" y="5157720"/>
            <a:ext cx="194328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Ora 10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800000"/>
                </a:solidFill>
                <a:latin typeface="Times New Roman"/>
              </a:rPr>
              <a:t>Ora 12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4356000" y="5157720"/>
            <a:ext cx="208764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9933"/>
                </a:solidFill>
                <a:latin typeface="Times New Roman"/>
              </a:rPr>
              <a:t>Ora 1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9933"/>
                </a:solidFill>
                <a:latin typeface="Times New Roman"/>
              </a:rPr>
              <a:t>Ora 8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6732720" y="5157720"/>
            <a:ext cx="216036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00"/>
                </a:solidFill>
                <a:latin typeface="Times New Roman"/>
              </a:rPr>
              <a:t>Ora 7  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9900"/>
                </a:solidFill>
                <a:latin typeface="Times New Roman"/>
              </a:rPr>
              <a:t>Ora 11 (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asd</cp:lastModifiedBy>
  <dcterms:modified xsi:type="dcterms:W3CDTF">2009-05-05T06:47:11Z</dcterms:modified>
  <cp:revision>45</cp:revision>
  <dc:subject/>
  <dc:title>Unităţi de măsură. Aplicaţii</dc:title>
</cp:coreProperties>
</file>